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3ED-BC73-400C-8865-02B000CF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0E18-8333-4336-9738-A57F6C71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9CD6-8E31-4AF3-BBA5-5CAA6B89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6631-74FB-447B-84FE-55601C9F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A33-5710-4764-9B1D-5E7AD327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8C1-E9C5-49B4-97BD-37717368D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837-9292-4DF7-A204-D009D1A0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A4D-434B-4DFD-B6DA-6FC83D0AF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A06-92F1-4C44-A30B-41EE9C8E9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1F8-800E-48A5-BE5D-9596A466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F8B0-1DFD-4540-9886-093C00623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CC9-5559-47A8-9BF6-13321E2A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D811F-7F08-4C9C-A2DD-B12AE1099996}" type="slidenum">
              <a:rPr b="0" lang="en-US" sz="1400" spc="-1" strike="noStrike">
                <a:solidFill>
                  <a:srgbClr val="00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</a:rPr>
              <a:t>Zakon o zaštiti stanovništva od zaraznih bolesti</a:t>
            </a:r>
            <a:endParaRPr b="0" lang="en-US" sz="40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Donosi Narodna skupština Republike Srbije;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Proglašava se ukazom Predsednika Republike Srbije;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Objavljuje u Službenom glasniku Republike Srbije;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ff00"/>
                </a:solidFill>
                <a:latin typeface="Times New Roman"/>
              </a:rPr>
              <a:t>RZZO – usluge</a:t>
            </a:r>
            <a:br>
              <a:rPr sz="4400"/>
            </a:b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idemiolоšk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bra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а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ojedinačnih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i </a:t>
            </a:r>
            <a:r>
              <a:rPr b="0" lang="sr-Latn-CS" sz="3200" spc="-1" strike="noStrike" u="sng">
                <a:solidFill>
                  <a:srgbClr val="00ff00"/>
                </a:solidFill>
                <a:uFillTx/>
                <a:latin typeface="Times New Roman"/>
              </a:rPr>
              <a:t>zbirnih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rijavа obоljenja/smrti od zarаzne bolesti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umnje na zarаznu bolest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aboratorijski utvrđenog uzročnika zarаzne bolesti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(</a:t>
            </a:r>
            <a:r>
              <a:rPr b="0" i="1" lang="sr-Latn-CS" sz="3200" spc="-1" strike="noStrike">
                <a:solidFill>
                  <a:srgbClr val="00ff00"/>
                </a:solidFill>
                <a:latin typeface="Times New Roman"/>
              </a:rPr>
              <a:t>broj prijava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00"/>
                </a:solidFill>
                <a:latin typeface="Times New Roman"/>
              </a:rPr>
              <a:t>RZZO - usluge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idemiološk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ispitivanj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bolelih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,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ksponiranih/sumnjivih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i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osilaca uzročnika zaraznih bolesti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epidemiološka anketa)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ff00"/>
                </a:solidFill>
                <a:latin typeface="Times New Roman"/>
              </a:rPr>
              <a:t>(broj epidemiološki ispitanih pacijenata)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Z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ravstveni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pregledi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lica koja su nosioci uzročnika zaraznih bolesti (kliconoše)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ijava oboljenja/kliconoštva otkrivenih epidemiološkim ispitivanjem 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00"/>
                </a:solidFill>
                <a:latin typeface="Times New Roman"/>
              </a:rPr>
              <a:t>(broj  prijava koje je napisao epidemiolog)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00"/>
                </a:solidFill>
                <a:latin typeface="Times New Roman"/>
              </a:rPr>
              <a:t>RZZO - usluge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idemiološk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istraživanj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epidemija 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ijava epidemija 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form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sanje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 epidemijam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000" spc="-1" strike="noStrike">
                <a:solidFill>
                  <a:srgbClr val="00ff00"/>
                </a:solidFill>
                <a:latin typeface="Times New Roman"/>
              </a:rPr>
              <a:t>(zdravstvenoj službi, inskekcijskim službama)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edl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ganje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mera za sprečavanje i suzbijanje epidemij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rada završnih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veštaja o epidemijam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java epidemija 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00"/>
                </a:solidFill>
                <a:latin typeface="Times New Roman"/>
              </a:rPr>
              <a:t>RZZO - usluge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Ciljano zdravstveno vaspitanje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ff00"/>
                </a:solidFill>
                <a:latin typeface="Times New Roman"/>
              </a:rPr>
              <a:t>(broj pacijenata kod kojih je sprovedeno ciljano zdravstveno vaspitanje)</a:t>
            </a: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00"/>
                </a:solidFill>
                <a:latin typeface="Times New Roman"/>
              </a:rPr>
              <a:t>RZZO - usluge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idemiološk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bra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a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slučajeva bolničkih infekcij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edlaganje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era za sprečavanje i suzbijanje bolničkih infekcij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00"/>
                </a:solidFill>
                <a:latin typeface="Times New Roman"/>
              </a:rPr>
              <a:t>RZZO - usluge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ipravnost epidemioloških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kip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ff00"/>
                </a:solidFill>
                <a:latin typeface="Times New Roman"/>
              </a:rPr>
              <a:t>(u satima)</a:t>
            </a: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zveštaj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/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naliz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o zaraznim bolestima po zahtevu RZZO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Rad u stručnim telima, grupama, komisijama po zahtevu filijale RZZO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ff00"/>
                </a:solidFill>
                <a:latin typeface="Times New Roman"/>
              </a:rPr>
              <a:t>RZZO – usluge</a:t>
            </a:r>
            <a:br>
              <a:rPr sz="4400"/>
            </a:b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plan potrebnih količina vakcin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ručno metodološk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omoć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zdravstvenim ustanovama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u izradi planova obaveznih imunizacij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K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ntrol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ojedinačnih planova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potreba u vakcinama zdravstvenih ustanov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rada objedinjenog plana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potreba u vakcinama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za nadležnu teritoriju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00"/>
                </a:solidFill>
                <a:latin typeface="Times New Roman"/>
              </a:rPr>
              <a:t>RZZO – usluge</a:t>
            </a:r>
            <a:br>
              <a:rPr sz="4400"/>
            </a:b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nabavka i distribucija vakcin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ganizovan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nabavk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vakcina za 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zdravstvene ustanove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D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stribuir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nje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vakcin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 (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oz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e)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dzor nad sprovođenjem vakcinacije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u 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akcinalni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unktovima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K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ntrola hladnog lanca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u 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akcinalni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unkto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ima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00"/>
                </a:solidFill>
                <a:latin typeface="Times New Roman"/>
              </a:rPr>
              <a:t>RZZO – usluge</a:t>
            </a:r>
            <a:br>
              <a:rPr sz="4400"/>
            </a:b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Praćenje potrošnje vakcina/Ig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aliz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ojedinačnih kvartalnih izveštaja o utrošku vakcin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 sa brojem distribuiranih i aplikovanih vakcin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rada objedinjenih kvartalnih izveštaja o utrošku vakcin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 sa brojem distribuiranih i aplikovanih doza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rada objedinjenog godišnjeg izveštaja o utrošku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 i 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zalihama vakcina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ff00"/>
                </a:solidFill>
                <a:uFillTx/>
                <a:latin typeface="Times New Roman"/>
              </a:rPr>
              <a:t>Utrošak špriceva i igala za aplikaciju vakcina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ff00"/>
                </a:solidFill>
                <a:latin typeface="Times New Roman"/>
              </a:rPr>
              <a:t>RZZO – usluge</a:t>
            </a:r>
            <a:br>
              <a:rPr sz="4400"/>
            </a:b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ispitivanje uzroka nesprovedene imunizacije, kontraindikacije, dalja imunizacija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egled vakcinalnih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/</a:t>
            </a:r>
            <a:r>
              <a:rPr b="0" i="1" lang="sr-Latn-CS" sz="2800" spc="-1" strike="noStrike">
                <a:solidFill>
                  <a:srgbClr val="00ff00"/>
                </a:solidFill>
                <a:latin typeface="Times New Roman"/>
              </a:rPr>
              <a:t>zdravstvenih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kartona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pit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vanje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rijav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ljenih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neželjenih reakcija nakon imunizacije 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ručn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mišljenje o daljem sprovođenju imunizacije obveznika po uputu nadležnog lekara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</a:rPr>
              <a:t>Zakon o zaštiti stanovništva od zaraznih bolesti</a:t>
            </a:r>
            <a:br>
              <a:rPr sz="4000"/>
            </a:br>
            <a:r>
              <a:rPr b="0" lang="sr-Latn-CS" sz="2000" spc="-1" strike="noStrike">
                <a:solidFill>
                  <a:srgbClr val="00ff00"/>
                </a:solidFill>
                <a:latin typeface="Times New Roman"/>
              </a:rPr>
              <a:t> (Službeni glasnik RS, broj 125/2004. godine)</a:t>
            </a:r>
            <a:br>
              <a:rPr sz="2000"/>
            </a:b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Ovim zakonom se uređuje: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Zaštita stanovništva od zaraznih bolesti;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Zarazne bolesti koje ugrožavaju zdravlje stanovništva Republike Srbije i čije je sprečavanje i suzbijanje od opšteg interesa za Republiku Srbiju;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3399"/>
                </a:solidFill>
                <a:latin typeface="Times New Roman"/>
              </a:rPr>
              <a:t>Mere za zaštitu stanovništva od tih bolesti;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Način sprovođenja tih mera;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Obezbeđenje sredstava za njihovo sprovođenje;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Vršenje nadzora nad izvršenjem ovog Zakona i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Druga pitanja od značaja za zaštitu stanovništva od zaraznih bolesti.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ff00"/>
                </a:solidFill>
                <a:latin typeface="Times New Roman"/>
              </a:rPr>
              <a:t>RZZO – usluge</a:t>
            </a:r>
            <a:br>
              <a:rPr sz="4400"/>
            </a:b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imunizacij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 u="sng">
                <a:solidFill>
                  <a:srgbClr val="00ff00"/>
                </a:solidFill>
                <a:uFillTx/>
                <a:latin typeface="Times New Roman"/>
              </a:rPr>
              <a:t>Lekarski pregled lica za vakcinaciju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ktivna imunizacij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rotiv hepatitisa B po utvrđenim indikacijama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sivna imunizacij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rotiv hepatitisa B po utvrđenim indikacijama 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BIG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ktivna imunizacij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rotiv besnila 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sivna imunizacij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rotiv  besnila 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(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RIG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munizacij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rotiv gripa po epidemiološkim indikacijama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ezultati</a:t>
            </a:r>
            <a:r>
              <a:rPr b="0" lang="sr-Latn-CS" sz="4000" spc="-1" strike="noStrike">
                <a:solidFill>
                  <a:srgbClr val="00ff00"/>
                </a:solidFill>
                <a:latin typeface="Times New Roman"/>
              </a:rPr>
              <a:t> realizacije usluga prema RZZO</a:t>
            </a:r>
            <a:endParaRPr b="0" lang="en-US" sz="40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rihineloz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pidemiološkim ispitivanjem obuhvaćeno 179 osob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bolelo 48 osob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ospitalizovano 14 bolesnika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ije obolela 131 osoba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ajveća količina kupljenih kobasica nije konzumirana!!!! 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288000" indent="-2880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Tetanus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00"/>
                </a:solidFill>
                <a:latin typeface="Times New Roman"/>
              </a:rPr>
              <a:t>MINISTARSTVO ZDRAVLJA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Praćenje i analiza epidemiološke situacije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Edukativne aktivnosti (populacija/vulnerabilne grupe)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Kolektivni imunitet (obuhvat imunizacijom)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nisu menjani glavni naslovi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nisu menjana sredstva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Poslovi su pregrupisani, jasno formulisani sa preciznim indikatorima.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Epidemije????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Analiza i kontrola epidemija (mikrobiologija)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ff00"/>
                </a:solidFill>
                <a:latin typeface="Times New Roman"/>
              </a:rPr>
              <a:t>Spremnost za vanredna stanja (institut/zavod)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22200" indent="-322200">
              <a:spcBef>
                <a:spcPts val="601"/>
              </a:spcBef>
              <a:buClr>
                <a:srgbClr val="00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ff00"/>
                </a:solidFill>
                <a:latin typeface="Times New Roman"/>
              </a:rPr>
              <a:t>Ministarstv</a:t>
            </a:r>
            <a:r>
              <a:rPr b="0" lang="sr-Latn-CS" sz="4400" spc="-1" strike="noStrike">
                <a:solidFill>
                  <a:srgbClr val="00ff00"/>
                </a:solidFill>
                <a:latin typeface="Times New Roman"/>
              </a:rPr>
              <a:t>o</a:t>
            </a:r>
            <a:r>
              <a:rPr b="0" lang="sr-CS" sz="4400" spc="-1" strike="noStrike">
                <a:solidFill>
                  <a:srgbClr val="00ff00"/>
                </a:solidFill>
                <a:latin typeface="Times New Roman"/>
              </a:rPr>
              <a:t> zdravlja- Programi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6.</a:t>
            </a:r>
            <a:r>
              <a:rPr b="1" lang="hr-H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EVENCIJA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I</a:t>
            </a:r>
            <a:r>
              <a:rPr b="1" lang="hr-H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KONTROLA </a:t>
            </a:r>
            <a:r>
              <a:rPr b="1" lang="sl-SI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ZARAZNIH  BOLESTI</a:t>
            </a:r>
            <a:r>
              <a:rPr b="1" lang="sr-CS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, UKLJUČUJUĆI I NACIONALNE PROGRAME IMUNIZACIJE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I  -   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ojekat/zadatak: 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ogram prevencije i kontrole zaraznih bolesti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II - </a:t>
            </a:r>
            <a:r>
              <a:rPr b="0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ojekat/zadatak: Nacionalni p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ogram imunizacija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odrška programu imunizacija (bez vakcina)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ff00"/>
                </a:solidFill>
                <a:latin typeface="Times New Roman"/>
              </a:rPr>
              <a:t>7. </a:t>
            </a:r>
            <a:r>
              <a:rPr b="1" lang="hr-H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EVENCIJA</a:t>
            </a:r>
            <a:r>
              <a:rPr b="1" lang="hr-HR" sz="2000" spc="-1" strike="noStrike">
                <a:solidFill>
                  <a:srgbClr val="00ff00"/>
                </a:solidFill>
                <a:latin typeface="Times New Roman"/>
              </a:rPr>
              <a:t>,</a:t>
            </a:r>
            <a:r>
              <a:rPr b="1" lang="hr-HR" sz="20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KONTROLA</a:t>
            </a:r>
            <a:r>
              <a:rPr b="1" lang="hr-HR" sz="2000" spc="-1" strike="noStrike">
                <a:solidFill>
                  <a:srgbClr val="00ff00"/>
                </a:solidFill>
                <a:latin typeface="Times New Roman"/>
              </a:rPr>
              <a:t> I PRAĆENJE VODEĆIH HRONIČNIH NEZARAZNIH BOLESTI</a:t>
            </a:r>
            <a:endParaRPr b="0" lang="en-US" sz="20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00"/>
                </a:solidFill>
                <a:latin typeface="Times New Roman"/>
              </a:rPr>
              <a:t>I - 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ogram prevencije i kontrole zaraznih bolesti</a:t>
            </a:r>
            <a:endParaRPr b="0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ikupljanje, 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statistička 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brada i 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videncija prijava zaraznih bolesti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rada periodičnih izveštaja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aćenje i analiza epidemiološke situacije kroz e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idemiološki nadzor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Zdravstveni nadzor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 putnika u međunarodnom saobraćaju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liminacija i eradikacija određenih (prioritetnih) zaraznih bolesti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00"/>
                </a:solidFill>
                <a:latin typeface="Times New Roman"/>
              </a:rPr>
              <a:t>I - 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ogram prevencije i kontrole zaraznih bolesti</a:t>
            </a:r>
            <a:endParaRPr b="0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6. 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evencija i kontrola bolničkih infekcija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	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6.1. Kontinuirani nadzor nad bolničkim infekcijama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(</a:t>
            </a:r>
            <a:r>
              <a:rPr b="0" i="1" lang="sr-Latn-CS" sz="3200" spc="-1" strike="noStrike">
                <a:solidFill>
                  <a:srgbClr val="00ff00"/>
                </a:solidFill>
                <a:latin typeface="Times New Roman"/>
              </a:rPr>
              <a:t>komisije)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6.2. Ciljani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adzor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ad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bolničkim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nfekcija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a kroz studiju incidencije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 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6.3. Ciljani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adzor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ad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bolničkim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nfekcija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ma kroz studiju prevalencije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00"/>
                </a:solidFill>
                <a:latin typeface="Times New Roman"/>
              </a:rPr>
              <a:t>I - </a:t>
            </a:r>
            <a:r>
              <a:rPr b="1" lang="sr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ogram prevencije i kontrole zaraznih bolesti</a:t>
            </a:r>
            <a:endParaRPr b="0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7. 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Zdravstveno vaspitanje u vezi sa  prevencijom i kontrolom zaraznih bolesti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 učešće u obeležavanju borbe protiv side, virusnih hepatitisa, tuberkuloza i nedelje imunizacije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ff00"/>
                </a:solidFill>
                <a:latin typeface="Times New Roman"/>
              </a:rPr>
              <a:t>I - </a:t>
            </a:r>
            <a:r>
              <a:rPr b="1" lang="sr-Latn-CS" sz="3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ogram prevencije i kontrole zaraznih bolesti</a:t>
            </a:r>
            <a:endParaRPr b="0" lang="en-US" sz="36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8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videncija, p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evencija 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 kontrola 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IV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i drugih 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I 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8.1. P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evencija 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 kontrola 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HIV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i drugih </a:t>
            </a:r>
            <a:r>
              <a:rPr b="0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I 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8.2. Praćenje HIV i drugih SPI kroz registre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8.3. Prevencija i kontrola profesionalnog rizika od HIV i drugih krvnoprenosivih infekcija (hepatitis B i C)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</a:rPr>
              <a:t>II - </a:t>
            </a: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acionalni p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ogram imunizacija – podrška programu imunizacija (bez vakcina)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1.E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aluacija sprovođenja Programa imunizacija lica određenog uzrast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Evaluacija sprovođenja Programa imunizacija lica eksponiranih određenim zaraznim bolestim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Evaluacija sprovođenja Programa imunizacija lica po kliničkim indikacijam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</a:rPr>
              <a:t>II - </a:t>
            </a: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acionalni p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ogram imunizacija – podrška programu imunizacija (bez vakcina)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Organizovanje i koordinisanje rada 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S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tručnog tima za 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utvrđivanje trajnih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kontraindikacij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ff00"/>
                </a:solidFill>
                <a:latin typeface="Times New Roman"/>
              </a:rPr>
              <a:t>Mere za zaštitu stanovništva od zaraznih bolesti bolesti</a:t>
            </a:r>
            <a:endParaRPr b="0" lang="en-US" sz="40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Opšte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ff00"/>
                </a:solidFill>
                <a:latin typeface="Times New Roman"/>
              </a:rPr>
              <a:t>Lokalna samouprava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</a:rPr>
              <a:t>Posebne 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</a:rPr>
              <a:t>Vanredne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ff00"/>
                </a:solidFill>
                <a:latin typeface="Times New Roman"/>
              </a:rPr>
              <a:t>Programsk</a:t>
            </a: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ff00"/>
                </a:solidFill>
                <a:latin typeface="Times New Roman"/>
              </a:rPr>
              <a:t>Nadležna zdravstvena služba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 </a:t>
            </a:r>
            <a:r>
              <a:rPr b="1" lang="sr-Latn-CS" sz="2800" spc="-1" strike="noStrike">
                <a:solidFill>
                  <a:srgbClr val="00ff00"/>
                </a:solidFill>
                <a:latin typeface="Times New Roman"/>
              </a:rPr>
              <a:t>II - </a:t>
            </a:r>
            <a:r>
              <a:rPr b="1" lang="ru-RU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acionalni p</a:t>
            </a:r>
            <a:r>
              <a:rPr b="1" lang="sr-CS" sz="2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ogram imunizacija – podrška programu imunizacija (bez vakcina)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. 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laniranje, organizacija i učestvovanje u sprovođenju dodatnih imunizacion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h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aktivnosti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Posebne mere</a:t>
            </a:r>
            <a:br>
              <a:rPr sz="2800"/>
            </a:br>
            <a:r>
              <a:rPr b="0" lang="sr-Latn-CS" sz="1800" spc="-1" strike="noStrike">
                <a:solidFill>
                  <a:srgbClr val="00ff00"/>
                </a:solidFill>
                <a:latin typeface="Times New Roman"/>
              </a:rPr>
              <a:t>(usluge usmerena prema pacijentu)</a:t>
            </a: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Postavljanje dijagnoze,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Laboratorijsko ispitivanje radi utvrđivanja, uzročnika zarazne bolesti,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Prijavljivanje,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Epidemiološko ispitivanje,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Zdravstveno vaspitanje,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Prevoz, izolacija i lečenje,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99"/>
                </a:solidFill>
                <a:latin typeface="Times New Roman"/>
              </a:rPr>
              <a:t>Karantin i zdravstveni nadzor,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Zdravstveni pregledi,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00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ff00"/>
                </a:solidFill>
                <a:latin typeface="Times New Roman"/>
              </a:rPr>
              <a:t>Imunizacija i hemioprofilaksa,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  <a:p>
            <a:pPr marL="487440" indent="-48744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3399"/>
                </a:solidFill>
                <a:latin typeface="Times New Roman"/>
              </a:rPr>
              <a:t>DDD po epidemiološkim indikacijama</a:t>
            </a:r>
            <a:r>
              <a:rPr b="0" lang="sr-CS" sz="28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Vanredne mere </a:t>
            </a:r>
            <a:br>
              <a:rPr sz="4000"/>
            </a:br>
            <a:r>
              <a:rPr b="0" lang="sr-Latn-CS" sz="1800" spc="-1" strike="noStrike">
                <a:solidFill>
                  <a:srgbClr val="00ff00"/>
                </a:solidFill>
                <a:latin typeface="Times New Roman"/>
              </a:rPr>
              <a:t>(aktivnosti u slučajevima ugrožavanja zemlje epidemijama većih razmera i u slučajevima koji mogu dovesti do epidemija većih razmera)</a:t>
            </a: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ff00"/>
                </a:solidFill>
                <a:latin typeface="Times New Roman"/>
              </a:rPr>
              <a:t>Proglašavanje epidemije zarazne bolesti od većeg epidemiološkog značaja;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ff00"/>
                </a:solidFill>
                <a:latin typeface="Times New Roman"/>
              </a:rPr>
              <a:t>Epidemiološki nadzor u vanrednim slučajevima: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00ff00"/>
                </a:solidFill>
                <a:latin typeface="Times New Roman"/>
              </a:rPr>
              <a:t>-</a:t>
            </a:r>
            <a:r>
              <a:rPr b="0" lang="sr-CS" sz="1800" spc="-1" strike="noStrike">
                <a:solidFill>
                  <a:srgbClr val="00ff00"/>
                </a:solidFill>
                <a:latin typeface="Times New Roman"/>
              </a:rPr>
              <a:t> elementarne nesreće</a:t>
            </a: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ff00"/>
                </a:solidFill>
                <a:latin typeface="Times New Roman"/>
              </a:rPr>
              <a:t>- za vreme epidemije i dok postoji opasnost od širenja epidemije</a:t>
            </a: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ff00"/>
                </a:solidFill>
                <a:latin typeface="Times New Roman"/>
              </a:rPr>
              <a:t>- pojava nove ili nedovoljno poznate zarazne bolesti</a:t>
            </a: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sr-CS" sz="1800" spc="-1" strike="noStrike">
                <a:solidFill>
                  <a:srgbClr val="00ff00"/>
                </a:solidFill>
                <a:latin typeface="Times New Roman"/>
              </a:rPr>
              <a:t>- sumnje na upotrebu biološkog agensa</a:t>
            </a: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ff00"/>
                </a:solidFill>
                <a:latin typeface="Times New Roman"/>
              </a:rPr>
              <a:t>Mere radi sprečavanja unošenja u zemlju, širenja i suzbijanja zaraznih bolesti;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ff00"/>
                </a:solidFill>
                <a:latin typeface="Times New Roman"/>
              </a:rPr>
              <a:t>Epidemiološki nadzor</a:t>
            </a: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ff00"/>
                </a:solidFill>
                <a:latin typeface="Times New Roman"/>
              </a:rPr>
              <a:t>(da ne dođe do situacije da zemlja bude ugrožena epidemijama većih razmera):</a:t>
            </a:r>
            <a:r>
              <a:rPr b="0" lang="sr-Latn-CS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sr-Latn-CS" sz="1800" spc="-1" strike="noStrike">
                <a:solidFill>
                  <a:srgbClr val="00ff00"/>
                </a:solidFill>
                <a:latin typeface="Times New Roman"/>
              </a:rPr>
              <a:t>- </a:t>
            </a:r>
            <a:r>
              <a:rPr b="0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pidemiološka situacija zaraznih bolesti, </a:t>
            </a: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ff00"/>
                </a:solidFill>
                <a:latin typeface="Times New Roman"/>
              </a:rPr>
              <a:t>	</a:t>
            </a:r>
            <a:r>
              <a:rPr b="0" lang="sr-Latn-CS" sz="1800" spc="-1" strike="noStrike">
                <a:solidFill>
                  <a:srgbClr val="00ff00"/>
                </a:solidFill>
                <a:latin typeface="Times New Roman"/>
              </a:rPr>
              <a:t>- </a:t>
            </a:r>
            <a:r>
              <a:rPr b="0" lang="sr-Latn-CS" sz="18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kolektivni imunitet - imunizacija</a:t>
            </a:r>
            <a:endParaRPr b="0" lang="en-US" sz="18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00"/>
                </a:solidFill>
                <a:latin typeface="Times New Roman"/>
              </a:rPr>
              <a:t>Programi za sprečavanje i suzbijanje zaraznih bolesti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Programski zadaci se definišu na osnovu: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Zakona 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Nacionalnih strategij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Međunarodnim programima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ff00"/>
                </a:solidFill>
                <a:latin typeface="Times New Roman"/>
              </a:rPr>
              <a:t>Zakon o zaštiti stanovništva od zaraznih bolesti</a:t>
            </a:r>
            <a:endParaRPr b="0" lang="en-US" sz="40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Član 4, stav 4: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Sprovođenje mera za zaštitu stanovništva od zaraznih bolesti i obezbeđenje sredstava za njihovo sprovođenje ima </a:t>
            </a:r>
            <a:r>
              <a:rPr b="0" lang="sr-Latn-CS" sz="3200" spc="-1" strike="noStrike">
                <a:solidFill>
                  <a:srgbClr val="ff3399"/>
                </a:solidFill>
                <a:latin typeface="Times New Roman"/>
              </a:rPr>
              <a:t>prioritet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 u odnosu na sprovođenje ostalih mera u oblasti zdravstvene zaštite i obezbeđenje sredstava za njihovo korišćenje.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Izvori finansiranja</a:t>
            </a:r>
            <a:r>
              <a:rPr b="0" lang="en-US" sz="4400" spc="-1" strike="noStrike">
                <a:solidFill>
                  <a:srgbClr val="00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Budžet (MZ)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aktivnosti u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smerene prema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OPULACIJ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rogramske aktivnosti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RZZO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usluge u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smerene prema</a:t>
            </a: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POJEDINC</a:t>
            </a: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U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vakcine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ff00"/>
                </a:solidFill>
                <a:latin typeface="Times New Roman"/>
              </a:rPr>
              <a:t>RZZO</a:t>
            </a:r>
            <a:endParaRPr b="0" lang="en-US" sz="4400" spc="-1" strike="noStrike">
              <a:solidFill>
                <a:srgbClr val="00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POJEDINAC: Oboleo ili eksponiran, nevakcinisan (može oboleti), sa postvakcinalnom  komplikacijom.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ff00"/>
                </a:solidFill>
                <a:latin typeface="Times New Roman"/>
              </a:rPr>
              <a:t>VAKCINE: Potrošnja/cena vakcina (obezbeđuju iz sredstava RZZO)</a:t>
            </a: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09:28:05Z</dcterms:created>
  <dc:creator>Zorca Seguljev</dc:creator>
  <dc:description/>
  <dc:language>en-US</dc:language>
  <cp:lastModifiedBy>Morbilli</cp:lastModifiedBy>
  <dcterms:modified xsi:type="dcterms:W3CDTF">2011-03-17T07:10:36Z</dcterms:modified>
  <cp:revision>15</cp:revision>
  <dc:subject>Programski zadatci</dc:subject>
  <dc:title>PowerPoint Presentation</dc:title>
</cp:coreProperties>
</file>